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253D-DD9B-4B3F-B4E4-BCA93A2C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8882-AE9F-42DF-B5A6-8902518C4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0A0-9FEC-41FE-AA4C-DAD4863C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84B-7E7B-4FBF-AE6F-EC4FE693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273-B629-4B27-9819-6B219FB0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922-06A5-4300-A511-49CAB8FD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B7D-24EC-4B98-B8D8-DEA7DA9D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571-42BF-41D6-8D04-F2974C78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4D0-7109-4D20-A439-A41965A5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D70-D966-4961-9E34-57675897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7BA-9EA6-453D-810C-D7B2AF0F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E31-3685-4B0A-8D09-08DA9445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047-B475-4DFB-BC34-7A5F4705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90B-E3FB-416A-8FAD-EFFFD04D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37C9-1D48-4C6A-88C7-9FA91E414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iviana Peral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Buenos días! Mi nombre es Viviana. Yo vivo en Nueva York. Tengo catorce años. Tengo un hermano meno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28520" y="4492800"/>
            <a:ext cx="657360" cy="94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17560" y="4565520"/>
            <a:ext cx="554040" cy="79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28520" y="5559480"/>
            <a:ext cx="554040" cy="7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27040" y="4565520"/>
            <a:ext cx="45108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09960" y="2511360"/>
            <a:ext cx="4809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09960" y="3273480"/>
            <a:ext cx="577800" cy="834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09960" y="3803760"/>
            <a:ext cx="480960" cy="950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36880" y="4492800"/>
            <a:ext cx="650880" cy="944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36880" y="5175360"/>
            <a:ext cx="474480" cy="950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4240" y="6016680"/>
            <a:ext cx="6508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14:39:58Z</dcterms:created>
  <dc:creator>FriscoISD</dc:creator>
  <dc:description/>
  <dc:language>en-US</dc:language>
  <cp:lastModifiedBy>NYCDOE</cp:lastModifiedBy>
  <dcterms:modified xsi:type="dcterms:W3CDTF">2012-11-30T14:52:23Z</dcterms:modified>
  <cp:revision>101</cp:revision>
  <dc:subject/>
  <dc:title>Profile</dc:title>
</cp:coreProperties>
</file>